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76810"/>
        <c:axId val="80768352"/>
      </c:barChart>
      <c:catAx>
        <c:axId val="74576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68352"/>
        <c:crosses val="autoZero"/>
        <c:auto val="1"/>
        <c:lblAlgn val="ctr"/>
        <c:lblOffset val="100"/>
        <c:noMultiLvlLbl val="0"/>
      </c:catAx>
      <c:valAx>
        <c:axId val="807683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76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018A-1D7A-4EDD-96D2-335CD3868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2F8-F0DE-4037-B5BD-C8FA8911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EFB5-8574-464A-84ED-8E0578F3E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A851-1D4E-4686-ABAE-96536AE8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91F-9065-4157-99E0-893AFD11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BF0D-08D4-4F36-8187-E1F3F8BA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29A-D148-4F18-A916-E51FAC72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005-C8F4-4443-93DC-FB7029C4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663-751E-4F05-A8B9-E6859703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AE6-37CA-4A38-8FC6-1A2138F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883-CFF0-4C0C-A47D-0140718E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A08C-5F43-4E69-9FFF-2465B92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988DFC-28BB-4D6A-9050-667D26ED93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